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11C-9AD4-4A7E-9478-5988BBCC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346-8C62-46E9-AFCB-14F8D659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95FE5-83D8-486A-AEA5-427AE89B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D8854-1401-4DD2-B609-E74105ED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ECE3F-7AE0-4D90-B1FF-CD677923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32105-DA85-4A50-9865-355108A1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446B9-7B6D-4C3C-BE26-565BD9D6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D9920-158B-46B8-83E1-1FB2D465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90898-7DB3-4309-841A-8520ED0F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C9F75-99A3-475E-879E-D8D37D3D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64263-0383-4907-B062-407F196D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B1A83-EE2C-4806-817A-952E230D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231-7078-4C26-9C08-56A99ADF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28B33-17B8-40AA-94BE-B2200436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E3E8A-8DF7-4040-B212-355B701A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4FE99-6FF9-4D5E-B549-C69D893C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7E639-AFA5-4EAA-88FD-F6E67846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7D8DA-C571-4F8C-9C92-952ED5F2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CBBE3-A715-404C-8593-EB825399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9D898-61A8-4F95-AAE2-04CAC212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E0D59-C3F3-4A30-882D-9BAEC381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C1029-3B23-4D8B-9E78-AC3B323F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43853-40F5-4216-A9B0-7C438B4E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F5D1-9583-4EB0-A59E-5943BF63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82FD4-68D5-4F30-9DD4-672083DC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5AB6-1790-40A4-B8A0-E375F3D5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19A7-07B9-4D17-955E-F3CB549F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F07D-CCCF-4D04-B43D-7BF4EE56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CC4D-57EE-4DE9-AF22-1A9365E1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AB80-47EF-4A9F-9363-6C15B812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57E9-E1CB-4F45-BB2C-8EFDD4F8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7FD6-55F4-4F49-AAAD-7D159F8A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6F8-330E-47B9-B65B-80DBA0A9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BCE1-3C1C-4BB9-B824-D1A38447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AB87-F45A-4D5C-9558-B0F48984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C65E-2B3D-4C94-94B3-7AC1D58B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A857-3103-49C5-8D86-861844EE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BDB9-E375-438E-8EB8-34B5F5F7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AA0BA-946E-4778-977C-ED1076D7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E9FE9-88CA-4B7A-8DD3-9064DE00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A4F6B-1750-405E-A9D4-3C9B93C2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50C87-4F85-408D-9586-5BCA0B61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DC240-AF6C-4EA7-A915-A9A657BD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43D-21E2-4636-BCEE-8D7C0610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EFBB5-BAF3-4E8D-AB24-C61039B8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15379-564D-455A-8FBF-4394F468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63BDE-16EF-4A28-AF61-0C8D130C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91665-DFD7-4A9D-A48C-410CEA22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177C2-7A8D-4179-A9CC-8AF141E1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312E5-F2B9-4F78-8F02-CBECC516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E15C0-8E21-4FAB-BCDB-2D3C4346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F9DC0-6BCD-4E0B-9261-206F0ABB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335B0-9C16-48ED-AF3B-2428C11F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B46BE-6CBA-43FD-8854-D4174123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CC0-4E61-40BD-8B8D-53BD2214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98604-99C1-402C-B4A2-7470507C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A81B9-8E31-4ED1-B21F-A4177E9C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941D5-B55F-460C-9179-03BE9754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E8076-8B13-42B6-9453-A33DC6BE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A05F5-245A-4EDC-8A12-7CC878DD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DC1CF-A0B5-482F-8E3F-6EA72837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3B6E5-048D-4888-A77A-CFAFF6E6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A8F27-1860-407F-AB87-EB963E80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4047E-0E0B-4F47-B0CC-9F11ECC4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7E5A3-44DE-49C4-83D5-16542F16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DE4-E83D-4D60-9BFF-DD7296E7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C6B1A-6102-471C-A78E-87B238C8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805D2-5941-4F71-A437-7F1D3945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A6BA3-DBC5-4E2A-9108-46178BED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4302A-97DA-4176-92B2-D0585759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75397-8626-4E0A-981B-26D5207D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35641-C60A-4CA4-BDAC-54520481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02FF2-319D-4314-8B99-5A303F53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D735D-DD19-4914-BD57-A99EEC3E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AD3F1-2B14-4C37-B87E-179F30D6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08682-313E-4A91-8F7F-2EBECF77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DA3-C7FB-4514-8270-45AEE2BD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51BF6-5524-4581-AAB9-83C4C10E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66C9A-A8CA-4049-8B6A-4EC87E62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8CFB1-5F4E-4457-A938-8B523572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D9EB1-F2F7-43B0-9091-3DC4A573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6C454-B841-4F35-88A0-6E7C6A74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80856-1ADF-4CBA-92A4-4C2F149E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D1177-2502-42E6-9E0B-46F19EFD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E1E9C-D8D8-40B6-ABAE-9F7F61F4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4C586-7FC6-4B56-8728-8F2001AF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470C7-FD23-420B-B9C0-73EE548B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56C-8EA4-4D73-9C99-5939390F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838D9-A2AA-4244-8826-036D560C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078F3-6E63-4044-9B0D-372EC1E9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0753E-1548-4613-A349-A3EB5BD9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395B6-C7B2-40D0-9D8A-51FE22BF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4B839-7372-40E0-B5FE-456F7D64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2E052-37C1-47B7-BDC6-70CD4CC3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E8011-3F94-4270-9F81-17D6B07C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EE6DB-C89C-45FC-80CD-458E3AC7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FDFB0-2A41-4ECF-8802-2FF7D299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DCC29-FE08-4C48-A387-43989245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04D-EA06-46AD-80D2-79ACA8EA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F149A-3BB4-47AD-BC5F-C071A08C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3CA3F-9B71-4E09-81A1-23365F72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F43B8-9492-44D3-8BAF-6F58109A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D642C-4DCE-478C-AFF6-F649E2E9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D783D-4097-4FC5-8022-D7130011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ACF6C-3D51-4606-B6B8-1CD3C87C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458DC-9D64-4F84-BD6E-0A97DA80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18F6E-D6EA-42CD-A5C2-15BAEF4A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2B08C-32B0-44AA-A4EC-9F6956B1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F66C1-CC33-445C-959E-1B128F27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924-4676-4DD3-A44E-9E7C168B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F89D6-E52B-47F5-8085-33A7C403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BD1CA-2EF3-4A91-ABA8-7ABB99B5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47172-C7AB-47A7-BED9-8374B8D1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39A53-3B13-413C-BDD2-82A5D4CD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F5EB6-8215-4528-B747-C47D9E7B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02392-0AB8-4273-A89F-DAB41476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A659B-D51B-4C50-B4DB-18488AC4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47226-8CA6-4E35-BC2E-EB87743E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5DB4F-76B7-4787-9E89-E5E03AA3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22CE1-97B2-4B39-9135-FBAC649D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FC49-954F-41F0-9920-BEBE1EBF712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3F7D-4276-47C3-9B8E-19B1C5B1DBE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915B-B1B4-4061-896A-1F1356F7B17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BB82-88EE-4C48-9505-3D7930960DF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C076-04AB-4DBD-9F9C-C9A225613AD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B4DE-AD81-4F65-B60B-6FDA48EF88C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CE76-C063-421B-BFF8-7377E6C2726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0790-60D0-45F2-A3CC-BC72D272110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45B7-3527-47E3-B8D8-CBE3A2DF402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BA2A-7361-4773-B702-0C6ABBF541E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9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어느 나라에서 오셨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셨습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을 찍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을 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전화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를 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음 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을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디음 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에 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이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봤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난 주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서울에 왔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6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작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을 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청소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무엇을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누구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          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영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국 사람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임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저는 미국 사람이 아닙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영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그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나라에서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임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영국에서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미국 사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meri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니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그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ell (t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영국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니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be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나는 의사가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는 부산이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교과서가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≈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 which; interogative adj. always followed by a noun (cf.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느 것이 좋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느 나라 사람입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느 회사에서 일합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음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호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독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캐나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프랑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호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oom number ~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아닙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 음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과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아닙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사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캐나다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브라운 씨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자 친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체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7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3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나라에서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프랑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독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201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청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백화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롯데백화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말을 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슬리퍼리록 대학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를 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라호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2-03T16:57:09Z</dcterms:modified>
  <cp:revision>104</cp:revision>
  <dc:subject/>
  <dc:title>KOREAN LANGUAGE</dc:title>
</cp:coreProperties>
</file>